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5A60-56E2-49C9-BD3E-A6CF5D1D7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348B-9681-4C9D-8EB3-2E2ED57BC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C167-1367-41A9-8ABC-7059BB3C2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1E11-87B5-4524-8B53-F17F8A2DF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8E81-B7AC-42EC-91AB-52B510FD6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CBCA-6079-4BAE-9CBE-C55D73E48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6C3B-471E-43D9-B788-39E31808A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80D1-4B1A-4DD3-B2B1-424DE3DEC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AAA9-EEE2-4229-A617-60712E6C1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EBC5-5D00-4198-905A-AA954E86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44DC-E5F3-43A2-A16E-9EAD8D8F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FFC9-177D-40A2-837E-FEB769DB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9A79B-E632-4571-9C3C-087A2D9C9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hyperlink" Target="http://www.pskovdrb.ru/uploaded_images/IMG_1852-763918.jpg" TargetMode="External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gkirov.ru/mnenia/2008/09/05/igor-perminov-ottok-molodezhi-iz-rajonov-kirovskoj-oblasti-prichiny-i-perspektivy-" TargetMode="External"/><Relationship Id="rId2" Type="http://schemas.openxmlformats.org/officeDocument/2006/relationships/hyperlink" Target="http://www.mgkirov.ru/mnenia/2008/09/05/igor-perminov-ottok-molodezhi-iz-rajonov-kirovskoj-oblasti-prichiny-i-perspektivy-" TargetMode="External"/><Relationship Id="rId3" Type="http://schemas.openxmlformats.org/officeDocument/2006/relationships/hyperlink" Target="http://www.dist-learn.ru/movie/stati/problem.pdf" TargetMode="External"/><Relationship Id="rId4" Type="http://schemas.openxmlformats.org/officeDocument/2006/relationships/hyperlink" Target="http://www.dist-learn.ru/movie/stati/problem.pdf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regioncentre.ru/img/content/novosti/piter_obsh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.newsru.com/pict/id/large/794334_1128483467.gif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g.beta.rian.ru/images/3161/69/31616921.jp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s48.radikal.ru/i120/0808/7c/f2ca7dcda5e2.jpg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00000" y="476280"/>
            <a:ext cx="744876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блемы молодёжи</a:t>
            </a:r>
            <a:endParaRPr b="1" i="1" lang="en-US" sz="6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оссии и Германии</a:t>
            </a:r>
            <a:endParaRPr b="1" i="1" lang="en-US" sz="6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" descr="Картинка 5 из 155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042920" y="2708280"/>
            <a:ext cx="4267440" cy="3200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372360" y="3860640"/>
            <a:ext cx="22320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боту выполни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ченица 9 кла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альцева Кс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68360" y="1989000"/>
            <a:ext cx="7991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www.mgkirov.ru/mnenia/2008/09/05/igor-perminov-ottok-molodezhi-iz-rajonov-kirovskoj-oblasti-prichiny-i-perspektivy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://www.dist-learn.ru/movie/stati/problem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http://voluntary.ru/dictionary/568/word/%CF%D0%CE%C1%CB%C5%CC%C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sheburshunchik.ucoz.ru/publ/1-1-0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76360" y="260280"/>
            <a:ext cx="6000840" cy="152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спользуемые ссылки: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Картинка 89 из 155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2205000"/>
            <a:ext cx="5327640" cy="3995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00720" y="65880"/>
            <a:ext cx="4305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Выступление на виртуальном «круглом столе» журнала «Дружба народов»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Сейчас в стране нет </a:t>
            </a:r>
            <a:r>
              <a:rPr b="1" i="1" lang="en-US" sz="1800" spc="-1" strike="noStrike">
                <a:solidFill>
                  <a:srgbClr val="ff3399"/>
                </a:solidFill>
                <a:latin typeface="Arial"/>
              </a:rPr>
              <a:t>просто молодеж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Предполагать, что люди, входящие в одну и ту же возрастную категорию, уже в силу одного этого факта сегодня сталкиваются с одними и теми же проблемами и вопросами, –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ненаучно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Это еще мягко сказано. Смело можно сказать и по-другому: это </a:t>
            </a:r>
            <a:r>
              <a:rPr b="1" i="1" lang="en-US" sz="1800" spc="-1" strike="noStrike">
                <a:solidFill>
                  <a:srgbClr val="ff3399"/>
                </a:solidFill>
                <a:latin typeface="Arial"/>
              </a:rPr>
              <a:t>демагогия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124000" y="2054520"/>
            <a:ext cx="444996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ПРОБЛЕМА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греч. problema - преграда, трудность, задача) - в широком смысле - сложный теоретический или практический вопрос, требующий разрешения; в узком смысле - ситуация, характеризующаяся недостаточностью средств для достижения некоторой це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484360" y="476280"/>
            <a:ext cx="37720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иды поблем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лодёжи :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/>
          <p:nvPr/>
        </p:nvSpPr>
        <p:spPr>
          <a:xfrm>
            <a:off x="755640" y="2637000"/>
            <a:ext cx="36003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де жи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де учить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де отдыха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 что жи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 чему стреми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Картинка 14 из 1048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6360" y="24210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403280" y="476280"/>
            <a:ext cx="5904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ичины возникновения проблем</a:t>
            </a:r>
            <a:endParaRPr b="1" i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 молодёжи</a:t>
            </a:r>
            <a:endParaRPr b="1" i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2148120"/>
            <a:ext cx="3311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ециалисты центра занятости отмечают две основные причины молодежной безработиц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полученная специальность не востребована на рынке труда; 2) отсутствие производственного опы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32360" y="213372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чины могут быть «идеологические» и «социальны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03640" y="3206520"/>
            <a:ext cx="324036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блемы в области семьи непосредственно вытекают из проблем, условно отнесенных к сферам образования и трудоустрой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Картинка 13 из 10486">
            <a:hlinkClick r:id="rId1"/>
          </p:cNvPr>
          <p:cNvPicPr/>
          <p:nvPr/>
        </p:nvPicPr>
        <p:blipFill>
          <a:blip r:embed="rId2"/>
          <a:stretch/>
        </p:blipFill>
        <p:spPr>
          <a:xfrm rot="20668800">
            <a:off x="468360" y="980640"/>
            <a:ext cx="4457520" cy="35244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Картинка 15 из 10486">
            <a:hlinkClick r:id="rId3"/>
          </p:cNvPr>
          <p:cNvPicPr/>
          <p:nvPr/>
        </p:nvPicPr>
        <p:blipFill>
          <a:blip r:embed="rId4"/>
          <a:stretch/>
        </p:blipFill>
        <p:spPr>
          <a:xfrm rot="841200">
            <a:off x="4787640" y="28522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763640" y="333360"/>
            <a:ext cx="548640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особы решения </a:t>
            </a:r>
            <a:endParaRPr b="1" i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блем молодёжи</a:t>
            </a:r>
            <a:endParaRPr b="1" i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1918440"/>
            <a:ext cx="784836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ведя опрос среди студентов Тюменского педагогического колледжа №1 по проблеме социальной активности студенческой молодёжи были получены следующие данные: 60% опрошенных с интересом относятся к этой проблеме и 66% респондентов выразили желание проявить себя в разных формах социально - ориентированной деятельности. Соответственно,  40% опрошенных проблема социальной активности молодёжи не интересует, 34% испытуемых не выразили потребности реализовать себя в формах социально – ориентированной деятельности. Аргументация этой позиции такова: нехватка времени, наличие собственных проблем, нет опыта участия в социальной жизни, а потому нет представления об этой проблеме и желания  осуществить на практи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тересны ещё и такие данные: на вопрос: «Считаете ли вы, что социальная активность является качеством личности педагога?» утвердительно ответили 81%  опрошенных, отрицательно – 15%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276720" y="1989000"/>
            <a:ext cx="2881080" cy="3745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24000" y="623160"/>
            <a:ext cx="8440560" cy="49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аким образом, в сознании молодёжи есть тенденции к реализации себя в социально - значимых видах деятельности.  Следовательно, проблема нахождения способов развития и стимулирования социальной активности у молодых актуаль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Какие мы видим пути решения этого вопрос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В условиях получения профессионального образования есть много возможностей для реализации социальной активности. По мнению 95% опрошенных,  социальную активность они реализуют в разных видах педагогической деятельности (работа вожатыми и воспитателями в летних оздоровительных лагерях, руководителями кружков, секций); 34% студентов отмечают своё участие в волонтёрских отрядах; 30% - в молодёжных организациях, объединениях, 23%  респондентов - активные участники акций СМИ; предвыборной агитацией занималось 12% студе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На вопрос об участии в других формах общественной жизни, были даны ответы: соревнования разного уровня, олимпиады и конкурсы, концертная деятельность, фестивали, конференции, акции ко дню Победы, Дню Матери, Дню борьбы со СПИДом;  публикации в журналах, газетах, помощь Совету ветеран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Картинка 9 из 10486"/>
          <p:cNvPicPr/>
          <p:nvPr/>
        </p:nvPicPr>
        <p:blipFill>
          <a:blip r:embed="rId1"/>
          <a:stretch/>
        </p:blipFill>
        <p:spPr>
          <a:xfrm rot="20875200">
            <a:off x="394920" y="692280"/>
            <a:ext cx="5076720" cy="3381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042920" y="333360"/>
            <a:ext cx="28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buClr>
                <a:srgbClr val="ff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Самопомощь и выздоро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Картинка 5 из 10486"/>
          <p:cNvPicPr/>
          <p:nvPr/>
        </p:nvPicPr>
        <p:blipFill>
          <a:blip r:embed="rId2"/>
          <a:stretch/>
        </p:blipFill>
        <p:spPr>
          <a:xfrm rot="1072200">
            <a:off x="4211640" y="3284640"/>
            <a:ext cx="4286160" cy="2666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443640" y="321300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государ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300720" y="76500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роди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332000" y="443700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религиозные объеди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11:04:58Z</dcterms:created>
  <dc:creator>User_10</dc:creator>
  <dc:description/>
  <dc:language>en-US</dc:language>
  <cp:lastModifiedBy>User_10</cp:lastModifiedBy>
  <dcterms:modified xsi:type="dcterms:W3CDTF">2009-11-20T08:00:51Z</dcterms:modified>
  <cp:revision>5</cp:revision>
  <dc:subject/>
  <dc:title>Слайд 1</dc:title>
</cp:coreProperties>
</file>